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8B0A3B0-FAED-45AD-951C-4AFB35BBA4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6172200" y="5867280"/>
            <a:ext cx="2835360" cy="8967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876920" y="624852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80880" y="624852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tchie -- OS Themes -- March 20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22860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990720"/>
            <a:ext cx="80010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mes in Operating Systems Re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nnis M. Ritch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ll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ucent Technolo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mr@bell-labs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ttp://www.cs.bell-labs.com/~dm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248520" y="5791320"/>
            <a:ext cx="2825640" cy="9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4876920" y="624852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80880" y="624852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tchie -- OS Themes -- March 20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685800" y="4572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n 9 idea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80880" y="83808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all resources accessible by file system names:</a:t>
            </a:r>
            <a:br>
              <a:rPr sz="24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dev/console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dev/consctl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dev/mouse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proc  </a:t>
            </a:r>
            <a:r>
              <a:rPr b="1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rmation about processes)</a:t>
            </a:r>
            <a:br>
              <a:rPr sz="18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mem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stac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statu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control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...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ne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dn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omain name service)</a:t>
            </a:r>
            <a:br>
              <a:rPr sz="18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c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lone 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reate connections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cp05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data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end/receive data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control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statu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tcp10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.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4876920" y="624852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380880" y="624852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tchie -- OS Themes -- March 20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85800" y="4572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n 9 Idea #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80880" y="99072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naming scheme is private to each group of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xample, for those of a user of a shared mach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 for programs running in a window of a window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user’s programs can locally readjust their name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isting parts of the current name space of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untin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s supplied by a server of the 9P protoc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4876920" y="624852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80880" y="624852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tchie -- OS Themes -- March 20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85800" y="4572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Network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80880" y="99072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network devices is through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eces of another machine’s file space can be impor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us, programs on one machine can borrow network interfaces from serv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xample, on a machine on a Bell Labs internal networ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18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telnet stanford.ed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18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: Cannot translate address stanford.ed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18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876920" y="624852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80880" y="624852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tchie -- OS Themes -- March 20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85800" y="4572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Network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80880" y="99072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network devices is through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eces of another machine’s file space can be impor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us, programs on one machine can borrow network interfaces from serv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xample, on a machine on a Bell Labs internal networ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18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telnet stanford.ed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18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: Cannot translate address stanford.ed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18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import internetgate.bell-labs.com /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18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his binds the Internet gateway’s network directory onto my own; now my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/net is the one on the server machine, connected to the Interne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18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telnet stanford.ed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18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nnected to tcp!stanford.edu!telnet on /net/tcp/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18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UNIX(r) System V Release 4.0 (norob) (pts/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18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ogi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4876920" y="624852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80880" y="624852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tchie -- OS Themes -- March 20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4572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Example (before bind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523880" y="1397160"/>
            <a:ext cx="6134040" cy="41022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57200" y="1219320"/>
            <a:ext cx="3689280" cy="4076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4419720" y="1143000"/>
            <a:ext cx="4457880" cy="33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4876920" y="624852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880" y="624852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tchie -- OS Themes -- March 20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4572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Example (after bind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523880" y="1397160"/>
            <a:ext cx="6134040" cy="41022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57200" y="1219320"/>
            <a:ext cx="3771720" cy="46101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4495680" y="1143000"/>
            <a:ext cx="3994200" cy="46101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 flipH="1">
            <a:off x="3713040" y="2392200"/>
            <a:ext cx="4084920" cy="9684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39240" bIns="39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8640" y="314280"/>
            <a:ext cx="776916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4876920" y="624852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80880" y="624852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tchie -- OS Themes -- March 20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85800" y="4572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n 9 Example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80880" y="99072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otic file systems can be created, building on standard, old protocols like “File Transfer Protocol”-- F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2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ks by changing name space so that files 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n/ftp</a:t>
            </a:r>
            <a:br>
              <a:rPr sz="20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ually access a server that turns reads and writes into FTP requests:</a:t>
            </a:r>
            <a:br>
              <a:rPr sz="2400"/>
            </a:br>
            <a:br>
              <a:rPr sz="24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ftpfs ftp.microsoft.com /n/ntp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230-This is FTP.MICROSOFT.COM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230 Anonymous user logged in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215 Windows_NT version 5.0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ls -l /n/ftp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r-xr-xr-x owner          0  Apr 18 14:10  KBHelp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-r-xr-xr-x owner      54310  Apr 19 03:52  LS-LR.ZIP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-r-xr-xr-x owner      28160  Apr 19 03:52  MSNBRO.DOC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4876920" y="624852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80880" y="624852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tchie -- OS Themes -- March 20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85800" y="4572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n 9 Idea #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80880" y="99072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y to make data machine-indepen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ext representation where possible: encourage text instead of binary messages when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files to connect programs, for example, writ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onnect tcp!135.104.3.11!http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a control file instead of transmitting a binary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works across remote file systems, independent of byte ord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courage a more universal character set, lik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code (ISO 10646) in UTF-8 encoding: helpful for internationalization--even perhaps for  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486400" y="4952880"/>
            <a:ext cx="1038240" cy="4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4876920" y="624852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80880" y="624852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tchie -- OS Themes -- March 20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4572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een-shot 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4960" y="915840"/>
            <a:ext cx="837900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Plan 9 im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295280" y="1438200"/>
            <a:ext cx="6267600" cy="46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4876920" y="624852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80880" y="624852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tchie -- OS Themes -- March 20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685800" y="4572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ent Lucent Results/Products/Spinof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80880" y="99072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lan 9 distribu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ttp://plan9.bell.labs.com/plan9</a:t>
            </a:r>
            <a:br>
              <a:rPr sz="20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n open distribution of the Plan 9 research work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erno ™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ucent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hstar™ Access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ucent Managed Firewall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yet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a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657600" y="2286000"/>
            <a:ext cx="1085760" cy="4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876920" y="624852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80880" y="624852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tchie -- OS Themes -- March 20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4572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x Origins (1969 - ..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80880" y="99072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ll Labs has a long history in early operating systems, for example BE-SYS for IBM 709x machines; Mul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n Thompson wanted to write a computer operating system by the 1960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lore structures for building O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something for our own group to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damental idea: a good way to represent data (disk fi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steps for Unix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d concrete representation for data on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access methods to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rliest Unix simply tried to build some superstructure to test Thompson’s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4876920" y="624852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80880" y="624852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tchie -- OS Themes -- March 20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85800" y="4572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erno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80880" y="99072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OS that combines the system structure ideas from Plan 9 with other ide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rtual operating syste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can run either stand-alone on a small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nd-held, or set-top box, games cons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 as an ordinary application under Windows, Unix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chance and circumstance, similar for portable languages and systems were also re-emerging with Java language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ucent’s Inferno business was transferred to Vita Nuova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ttp://www.vitanuova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990720" y="5105520"/>
            <a:ext cx="651492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4876920" y="624852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80880" y="624852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tchie -- OS Themes -- March 20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685800" y="4572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hstar Access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914400"/>
            <a:ext cx="64008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Internet Protocol router designed to be useful for telephony applications as an end-office (Class 5) telephone switch; it hand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dinary voice telephone with usual 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applications (IP using standard protoco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wide variety of end-connection mechanism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plain telephone, fiber link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Inferno for its operating system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ttp://www.lucent.com/ins/products/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pas/index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7391520" y="1143000"/>
            <a:ext cx="1324080" cy="24192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7620120" y="3886200"/>
            <a:ext cx="895320" cy="8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4876920" y="624852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80880" y="624852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tchie -- OS Themes -- March 20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685800" y="4572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ucent Managed Firewa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80880" y="99072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Internet-to-Intranet safety interface, with packet and content filt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Inferno as its internal operating system for its central element: the “brick”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http://www.lucent.com/ins/products/vpnfirewall/index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3581280" y="4114800"/>
            <a:ext cx="194328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4876920" y="624852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80880" y="624852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tchie -- OS Themes -- March 20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685800" y="4572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a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80880" y="99072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mall box (15 cm long) provides VPN (Virtual Private Network)  secure tunneling for homes or small off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 encryption and com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nded for DSL and cable modem conn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administration needed--just insert between modem and comp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Plan 9 as its operating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a product: used mainly in research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600200" y="4343400"/>
            <a:ext cx="3595680" cy="19177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5943600" y="4952880"/>
            <a:ext cx="1085760" cy="4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4876920" y="624852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80880" y="624852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tchie -- OS Themes -- March 20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4572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80880" y="990720"/>
            <a:ext cx="541008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ject for showing correctness of protocols and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Holzmann’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i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l-checking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Pathstar for checking call-processing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multi-CPU system was built as a tool for this; it runs Plan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6019920" y="914400"/>
            <a:ext cx="2616120" cy="48531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1676520" y="4419720"/>
            <a:ext cx="1085760" cy="4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4876920" y="624852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80880" y="624852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tchie -- OS Themes -- March 20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85800" y="4572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80880" y="99072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line of research has been highly fruit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x and its offspring have been successful and influential (especially lively today in Linu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option of our technology is pervasive throughout the computer wor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still continues: but the challenge for Bell Labs research is to continue to find the new and interesting places in which to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 Factotum / Secure Store, Ven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876920" y="624852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80880" y="624852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tchie -- OS Themes -- March 20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5800" y="4572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n Early Ideas (1969-7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80880" y="99072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ch was inherited, especially from Multics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s contain just a sequence of bytes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ation is up to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mization of access is up to operating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ference is for files with readable text, not bin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s are named in a hierarchical, tree-like name space, e.g.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usr/dmr/japan/japanslides.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876920" y="624852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80880" y="624852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tchie -- OS Themes -- March 20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85800" y="4572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ystem access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80880" y="99072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operations are very si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handle = open(filename, read-or-write-mod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handle = create (filename, protection-mod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(handle, buffer, nbyt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rite(handle, buffer, nbyt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lose(hand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eek(handle, pla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876920" y="624852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80880" y="624852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tchie -- OS Themes -- March 20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0" y="4572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erarchical Na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534960" y="915840"/>
            <a:ext cx="8302680" cy="53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ts val="11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-- 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-- she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h1.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h2.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-- us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-- k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-- dm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-- jap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japanslides.pp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-- b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--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ts val="11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se are standard now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4876920" y="624852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80880" y="624852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tchie -- OS Themes -- March 20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85800" y="4572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s for other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80880" y="99072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erarchical naming is standard n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x introduced a consistent abstraction: names for I/O devices as part of the same hierarchy, for 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11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dev/tty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11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ame of terminal 2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11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ev/disk/disk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11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ame of a whole dis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11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dev/m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11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ame for main memory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se really exist in the file system and the same protection and ownership properties are applied as with ordinary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the extent possible, they look like the same byte streams as plain disk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 (like terminals and networks) have some special operations that apply: “I/O control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4876920" y="624852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380880" y="624852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tchie -- OS Themes -- March 20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85800" y="4572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mote file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80880" y="99072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1980s, Sun (with NFS), AT&amp;T Computer Systems (RFS), and Bell Labs Research (NetA) were building “remote file systems”  -- others pioneered also, like Xer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RPC (remote procedure call) mechanisms, attach file system hierarchies on other machines to a local mach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ortant generalization: approach to a distributed system transparent to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 problem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1599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usable are remote I/O devic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ts val="1599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 problems with protoc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18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usable are remote resourc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ts val="2001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working across machine architectures, e.g. Differences in byte ord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4876920" y="624852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80880" y="624852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tchie -- OS Themes -- March 20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85800" y="4572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x results and imp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80880" y="99072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luence has been substantial and influenti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ademic, commercial, government research use in 1970s, building on growth of minicomputer indus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espread use in 1980s following growth of workstation indus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rent industry and private interest centers on “open software” movement, enabled by open Unix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operating systems have been much influenced by these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4876920" y="624852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380880" y="624852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tchie -- OS Themes -- March 20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85800" y="4572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other step: Plan 9 (1990-20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380880" y="99072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iginal idea: define a remote protocol (called 9P) to talk to the fil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x began with a structural idea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w to represent a local file syst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n 9 began with this structural idea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w to talk to resources (local or remote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mr</dc:creator>
  <dc:description/>
  <dc:language>en-US</dc:language>
  <cp:lastModifiedBy>dmr</cp:lastModifiedBy>
  <cp:revision>0</cp:revision>
  <dc:subject/>
  <dc:title>Title</dc:title>
</cp:coreProperties>
</file>